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AE6-2A83-4892-9A70-BD7DE891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986-BA70-474F-984B-E4247E41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329-7CC2-4EEC-BFE9-D3B8B523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48A-011A-47B6-8997-A1C28B6B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039-C173-48B1-997C-290BD80E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E7F-BF2F-4A8C-BE5F-AED2F54D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643-3E57-40BC-8F5E-9CB7D257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9C4-4238-46F5-97FB-2C24C8ED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7AE-0F47-46D3-8A68-5F5AE6FF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BF1-7544-46B2-B4D9-C99DFBA4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AD0-90FF-4766-BC5A-58DF95DC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747-16E5-4A71-961D-785D24F6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D7E0-69EC-4621-B5AA-032D7F73A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ко написати рад за предмет “Медицина заснована на доказима” – 12. недељ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Слободан Јан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за сту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у од студија која задовољава критеријуме за укључивање посебно анализирати у погледу валидности, значајности и примењ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истите критеријуме које сте навели у методоло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рачунајте све потребне параметре и прикажите их у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скус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рвом делу дискусије сумирати резултате свих анализираних студ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другом делу дискусије упоредити своје резултате са резултатима систематских прегледних чланака других аутора који су писали на исту тему (обавезно проверити Кохранову базу подата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ставове поткрепљивати референцама, које се цитирају помоћу редних бројева, и наводе у “Литератур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једном пасусу дати закључак о теми која је била предмет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де не цитирати рефере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ар је онај закључак, који је сасвим јасан ономе ко га је писа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 се по редоследу појављивања у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ференце су нумерисане редним броје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ти референце по Ванкуверским правил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имери навођења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 у часопису: (сви аутори се наводе а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је 6 или мање; ако их је више, наводе с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 прва три уз "et al."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ley NJ, Zinsmeister AR, Schleck CD, Melton Љ. Dyspepsia and dyspeptic subgroups: a population based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. Gastroenterology 1992; 102: 1259-6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њ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rlock S. Diseases of the live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biliary system. 8th ed. Oxford: Blackwell Sc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, 1989. Поглавље у књизи: 24. Trier JJ. Celiac sprue. In: Sleisenger MH, Fordtran JS, eds. Gastrointestinal disease. 4th ed. Philadelphia: WB Saunders Co, 1989: 1134-5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изворе са интернета на кра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ференце треба додати у малој загради UL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ресу и датум када је посећена, нпр. (Посећено у септембру 2007 на www.medf.kg.ac.yu). Ако постоји дигитални код такве референце, уместо ULR треба навести DOI, нпр. (doi: 10.1111/j.1442-2042.2007.01834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хнички детаљ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 се пише ћирил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раћенице енглеских назива и мерне јединице се пишу латин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нт: Тајмс њу роман, 12, са 1.5 прор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ргине 2.5 центиме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рмат А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 не коричити, само захев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штампати у једном приме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авезно припремити електронску верзију рада у пдф формату на диску или УСБ-у и понети са собом на оцењивањ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руктура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ловна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же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тегија претраживања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итеријуми за укључивање и искључивање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итеријуми за процену валидности, значајности и примењ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а пронађених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ку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хнички детаљ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словна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рада (тема) : треба да садржи независну варијаблу, компаратор, исход и попу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е и презиме студента, број ин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метни наста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студијског про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факултета и дат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ажет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ако се налази после насловне стране, пише се на кр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жине око 300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следеће дел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и део садржи свега 2-3 реченице, и одражава суштину одговарајућег дела 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вести и 3 кључне речи на кра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ажетку се референце не цитир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рвом пасусу објаснити шта се до сада зна о теми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другом пасусу објаснити шта није познато о теми рада д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трећем пасусу објаснити шта ће ваш рад допринети у разјашњењу непознатих чињ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у тврдњу подржати референ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ференце се наводе помоћу редних бројева, а цитирају истим редоследом у одељку “Литератур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тратегија претраживања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базе које су претражив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сваку базу навести све комбинације кључних речи које су коришћ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сваку комбинацију кључних речи навести колико је студија пронађено, и разврстати их по категоријама (нпр. клиничка студија, прегледни чланак, експериментална студија на животињама, ит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ритеријуми за укључивање и искључивање 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врсту студија која се узима у обзир, нпр. клиничке студије терапијског ефекта, или студије прогностичк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врсте студија које се не узимају у обзир, нпр. Прегледни чланци, експерименталне студије на животињама, прикази случајева, ит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Објаснити како се дошло до студија које се даље анализир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 сваку студију која је била пронађена, а није испунила критеријуме за укључивање или је испунила критеријуме за искључивање, навести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Arial"/>
              </a:rPr>
              <a:t>конкретан разлог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ра из текста бити јасно како и зашто се дошло само до студија које су касније анализиране на валидност и значај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ритеријуми за процену валидности, значајности и примењ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таксативно критеријуме које ћете користити за процену валидности, значајности и примењивости пронађених студија, које задовољавају критеријуме за укључивање и не испуњавају критеријуме за искључ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8:17:49Z</dcterms:created>
  <dc:creator>Student</dc:creator>
  <dc:description/>
  <dc:language>en-US</dc:language>
  <cp:lastModifiedBy>Slobodan Jankovic</cp:lastModifiedBy>
  <dcterms:modified xsi:type="dcterms:W3CDTF">2015-08-02T12:37:32Z</dcterms:modified>
  <cp:revision>15</cp:revision>
  <dc:subject/>
  <dc:title>Slide 1</dc:title>
</cp:coreProperties>
</file>